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8.wmf" ContentType="image/x-wmf"/>
  <Override PartName="/ppt/media/image7.gif" ContentType="image/gif"/>
  <Override PartName="/ppt/media/image5.jpeg" ContentType="image/jpeg"/>
  <Override PartName="/ppt/media/image6.wmf" ContentType="image/x-wmf"/>
  <Override PartName="/ppt/media/image14.wmf" ContentType="image/x-wmf"/>
  <Override PartName="/ppt/media/image9.wmf" ContentType="image/x-wmf"/>
  <Override PartName="/ppt/media/image13.gif" ContentType="image/gif"/>
  <Override PartName="/ppt/media/image15.png" ContentType="image/png"/>
  <Override PartName="/ppt/media/image12.gif" ContentType="image/gif"/>
  <Override PartName="/ppt/media/image1.wmf" ContentType="image/x-wmf"/>
  <Override PartName="/ppt/media/whoosh.wav" ContentType="audio/x-wav"/>
  <Override PartName="/ppt/media/image2.gif" ContentType="image/gif"/>
  <Override PartName="/ppt/media/camera.wav" ContentType="audio/x-wav"/>
  <Override PartName="/ppt/media/image4.jpeg" ContentType="image/jpeg"/>
  <Override PartName="/ppt/media/image10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024-D9AC-40A7-8E1A-E6BD590B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74D-7A2A-4044-9E48-6533F7FB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0A5-2C7D-42BD-96E8-96F1DEE0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753-1BDB-4C7E-AD81-8808321F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D07-B7CB-46C8-A0FA-43AE3A23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2B4-F95E-4EE4-8042-F4BF61E3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2EAE-EA3F-4687-900F-5F6D707A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C00-EE43-4DA2-BABD-1050EB49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73E-A302-469C-95F2-7C082AFC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C1E-7052-4B39-8317-F7B2E9CF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330-5D1D-4A9A-8B23-3A6AA03F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880-77D3-451B-A4FB-CD9941B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a Vincent, Muhlenberg County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2DF9-1328-45CC-9C77-C19501D04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file:///tmp/home/.config/libreoffice/4/user/gallery/SN00542A.wav" TargetMode="External"/><Relationship Id="rId3" Type="http://schemas.microsoft.com/office/2007/relationships/media" Target="file:///tmp/home/.config/libreoffice/4/user/gallery/SN00542A.wav" TargetMode="External"/><Relationship Id="rId4" Type="http://schemas.openxmlformats.org/officeDocument/2006/relationships/image" Target="../media/image3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file:///tmp/home/.config/libreoffice/4/user/gallery/type.wav" TargetMode="External"/><Relationship Id="rId4" Type="http://schemas.microsoft.com/office/2007/relationships/media" Target="file:///tmp/home/.config/libreoffice/4/user/gallery/type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j0074813.wav" TargetMode="External"/><Relationship Id="rId3" Type="http://schemas.microsoft.com/office/2007/relationships/media" Target="file:///tmp/home/.config/libreoffice/4/user/gallery/j0074813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 Nar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Stories That Have Really Happened to You (At Least You Witnessed 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Documents and Settings\dvincent.MUHLENBERG\Application Data\Microsoft\Media Catalog\Downloaded Clips\cl0\PE01895_.wmf"/>
          <p:cNvPicPr/>
          <p:nvPr/>
        </p:nvPicPr>
        <p:blipFill>
          <a:blip r:embed="rId1"/>
          <a:stretch/>
        </p:blipFill>
        <p:spPr>
          <a:xfrm>
            <a:off x="2387520" y="609480"/>
            <a:ext cx="4368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vent: Think of a Time When You Fel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c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arr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ppoi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Documents and Settings\dvincent.MUHLENBERG\Application Data\Microsoft\Media Catalog\Downloaded Clips\cl7\BD19550_.gif"/>
          <p:cNvPicPr/>
          <p:nvPr/>
        </p:nvPicPr>
        <p:blipFill>
          <a:blip r:embed="rId1"/>
          <a:stretch/>
        </p:blipFill>
        <p:spPr>
          <a:xfrm>
            <a:off x="3608280" y="2732040"/>
            <a:ext cx="4087800" cy="2678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960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56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na Vincent, Muhlenberg County Sch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t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e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j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Event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3" descr="C:\Documents and Settings\dvincent.MUHLENBERG\Application Data\Microsoft\Media Catalog\Downloaded Clips\cl9e\j0396009.jpg"/>
          <p:cNvPicPr/>
          <p:nvPr/>
        </p:nvPicPr>
        <p:blipFill>
          <a:blip r:embed="rId1"/>
          <a:stretch/>
        </p:blipFill>
        <p:spPr>
          <a:xfrm>
            <a:off x="3657600" y="1828800"/>
            <a:ext cx="2341440" cy="153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:\Documents and Settings\dvincent.MUHLENBERG\Application Data\Microsoft\Media Catalog\Downloaded Clips\cl7e\j0316857.jpg"/>
          <p:cNvPicPr/>
          <p:nvPr/>
        </p:nvPicPr>
        <p:blipFill>
          <a:blip r:embed="rId2"/>
          <a:stretch/>
        </p:blipFill>
        <p:spPr>
          <a:xfrm>
            <a:off x="4724280" y="4191120"/>
            <a:ext cx="2971800" cy="167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17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ight: Life Lesson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 back on th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about what you learned a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rom having the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look back and learn from it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your life lesson and tell your story     in chronological order, the order tha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C:\Documents and Settings\dvincent.MUHLENBERG\Application Data\Microsoft\Media Catalog\Downloaded Clips\cl30\j0122145.wmf"/>
          <p:cNvPicPr/>
          <p:nvPr/>
        </p:nvPicPr>
        <p:blipFill>
          <a:blip r:embed="rId1"/>
          <a:stretch/>
        </p:blipFill>
        <p:spPr>
          <a:xfrm>
            <a:off x="7315200" y="1398600"/>
            <a:ext cx="21286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to Include: (Only the Ones that Made you Feel ____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C:\Documents and Settings\dvincent.MUHLENBERG\Application Data\Microsoft\Media Catalog\Downloaded Clips\cl71\j0283673.gif"/>
          <p:cNvPicPr/>
          <p:nvPr/>
        </p:nvPicPr>
        <p:blipFill>
          <a:blip r:embed="rId1"/>
          <a:stretch/>
        </p:blipFill>
        <p:spPr>
          <a:xfrm>
            <a:off x="3657600" y="2819520"/>
            <a:ext cx="3463920" cy="2371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960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235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to Include: (The Ones that SHOWED you Felt _____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lo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:\Documents and Settings\dvincent.MUHLENBERG\Application Data\Microsoft\Media Catalog\Downloaded Clips\cl0\DD00111_.wmf"/>
          <p:cNvPicPr/>
          <p:nvPr/>
        </p:nvPicPr>
        <p:blipFill>
          <a:blip r:embed="rId1"/>
          <a:stretch/>
        </p:blipFill>
        <p:spPr>
          <a:xfrm>
            <a:off x="685800" y="4419720"/>
            <a:ext cx="264636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dvincent.MUHLENBERG\Application Data\Microsoft\Media Catalog\Downloaded Clips\cl37\j0139947.wmf"/>
          <p:cNvPicPr/>
          <p:nvPr/>
        </p:nvPicPr>
        <p:blipFill>
          <a:blip r:embed="rId2"/>
          <a:stretch/>
        </p:blipFill>
        <p:spPr>
          <a:xfrm>
            <a:off x="3809880" y="2362320"/>
            <a:ext cx="2224080" cy="186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dvincent.MUHLENBERG\Application Data\Microsoft\Media Catalog\Downloaded Clips\cl0\EN00973_.wmf"/>
          <p:cNvPicPr/>
          <p:nvPr/>
        </p:nvPicPr>
        <p:blipFill>
          <a:blip r:embed="rId3"/>
          <a:stretch/>
        </p:blipFill>
        <p:spPr>
          <a:xfrm>
            <a:off x="6248520" y="4648320"/>
            <a:ext cx="1904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75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75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75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ow Motion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part in you personal narrative that would be put in slow motion if this were a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that part down with a snapshot so the audience can fully experience the most important moment(s) in your nar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ot of description, sensory detail, ac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C:\Documents and Settings\dvincent.MUHLENBERG\Application Data\Microsoft\Media Catalog\Downloaded Clips\cl0\AN00701_.wmf"/>
          <p:cNvPicPr/>
          <p:nvPr/>
        </p:nvPicPr>
        <p:blipFill>
          <a:blip r:embed="rId1"/>
          <a:stretch/>
        </p:blipFill>
        <p:spPr>
          <a:xfrm>
            <a:off x="6781680" y="685800"/>
            <a:ext cx="281952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Documents and Settings\dvincent.MUHLENBERG\Application Data\Microsoft\Media Catalog\Downloaded Clips\cl0\AG00441_.gif"/>
          <p:cNvPicPr/>
          <p:nvPr/>
        </p:nvPicPr>
        <p:blipFill>
          <a:blip r:embed="rId2"/>
          <a:stretch/>
        </p:blipFill>
        <p:spPr>
          <a:xfrm>
            <a:off x="380880" y="685800"/>
            <a:ext cx="17496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-Forwarding: Tran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e out the boring parts that readers would skip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reader along with trans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she never get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s can be accomplished with dialogue, thoughts, ac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C:\Documents and Settings\dvincent.MUHLENBERG\Application Data\Microsoft\Media Catalog\Downloaded Clips\cl0\AG00399_.gif"/>
          <p:cNvPicPr/>
          <p:nvPr/>
        </p:nvPicPr>
        <p:blipFill>
          <a:blip r:embed="rId1"/>
          <a:stretch/>
        </p:blipFill>
        <p:spPr>
          <a:xfrm>
            <a:off x="7315200" y="2057400"/>
            <a:ext cx="167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: Get the readers’ attention and get readers on the right track with Dialogue/Thoughts/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:  Make your audience feel the way you felt by reliving the experience (sensory details, dialogue, thoughts, 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: Make it feel finished and include and check to make sure the reader sees the life les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C:\Documents and Settings\dvincent.MUHLENBERG\Application Data\Microsoft\Media Catalog\Downloaded Clips\cl0\SO01893_.wmf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410080"/>
          </a:xfrm>
          <a:prstGeom prst="rect">
            <a:avLst/>
          </a:prstGeom>
          <a:ln w="0">
            <a:noFill/>
          </a:ln>
        </p:spPr>
      </p:pic>
      <p:pic>
        <p:nvPicPr>
          <p:cNvPr id="76" name="j0071853.wav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682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16:45:37Z</dcterms:created>
  <dc:creator>Michelle CC</dc:creator>
  <dc:description/>
  <dc:language>en-US</dc:language>
  <cp:lastModifiedBy>Michelle CC</cp:lastModifiedBy>
  <dcterms:modified xsi:type="dcterms:W3CDTF">2014-08-12T03:26:34Z</dcterms:modified>
  <cp:revision>7</cp:revision>
  <dc:subject/>
  <dc:title>Personal Narratives</dc:title>
</cp:coreProperties>
</file>